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3945-A655-4417-A418-1B7D7DEB7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al of this project is to find primitive galaxies at very high redshifts and thereby directly study early galaxy and star formation.   (could comment on the line as a good indicator of the unevolved population if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738C-DA84-4013-931F-BFCCA1AC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EDA8-84AD-4A79-925A-9B163F21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C35A-CA85-49E4-A393-13077870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23BF-AB4A-444D-844F-D71FEC26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F79A-BA66-40F8-9FAC-491FFD40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5C98-3FA2-4B2C-AEA8-DE5663E2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B19F-9422-4D08-8834-5F5BF3EE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79EF-40B4-4EDA-BC03-68A8507E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81B2-B5A9-4437-B928-8D5A4956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6D08-F9BE-49E3-9C50-177B0296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A9A9-DC01-4316-ADE1-7CC959EB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DD51-6D6B-453B-8B75-B8779649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2499-E645-4820-A296-D5D4CC0524BE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11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40 orbits of UDF observations with the ACS grism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pectra for every source in the field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Good S/N continuum detections to I(AB) ~ 27; about 30% of UDF sources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pectral identification of every 4&lt;z&lt;7 object to I(AB)=27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fficiently identifies spectroscopically interesting sources that might not merit a slit without the grism information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high equivalent width lines;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Real z &gt; 6 LBGs among the very red, faint stuff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0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straining Reion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e still see  expected number/luminosity of Lyman alpha emitters in our z=5.7 sample.Thus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ionization redshift is z &gt; 5.7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Rhoads &amp; Malhotra 2001, ApJ Lett 563, L5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xtended to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(reionization) &gt;  6.6?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Hu et al. 2002, Kodaira et al. 2003, Lilly et al. 2003, Cuby et al. 2003, Rhoads et al. 2003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15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Regions in z &gt; 5 Lyman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Samp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n H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I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region must be &gt; 1.2 Mpc (non-comoving) to reduce the line center optical depth to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τ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&lt; 1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requires a minimum value of   (L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t f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Times New Roman"/>
              </a:rPr>
              <a:t>esc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e can constrain all of these quantities in LALA using the observed line luminosities and equivalent width distribution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e find that L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t f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Times New Roman"/>
              </a:rPr>
              <a:t>esc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is &lt; 30% of threshold for the z=5.7 sources, i.e. the sources are too faint to create a large enough HII region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limit for the Hu et al source is similar, thanks to its lower physical luminosity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18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Lyman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 Test, First Order Concerns: τ ~ 2  &lt;  τ ~ 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Our threshold HII region size was based on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τ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= 1 at emitted line center. Lines have finite width, and τ &lt; τ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in the red wing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Hu et al source could be embedded in a fully neutral IGM and still get 10 to 20% of its Lyman α flux out (Haiman 2002)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21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  <p:pic>
        <p:nvPicPr>
          <p:cNvPr id="122" name="rei_sum_v1r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43434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sting Reion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371600"/>
            <a:ext cx="868680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istical test remains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: The </a:t>
            </a:r>
            <a:r>
              <a:rPr b="0" i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observed number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of Lyman α emitters above a fixed threshold will show a dramatic drop  at  reionization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uivalent width test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lso the equivalent width of the Lyman-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line will also drop at reionization. 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t present 5/6 sources at z&gt;6 have rest equivalent width of the Lyman-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line &lt;50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Å, whereas at z=4.5 median equivalent width is 200 Å (Malhotra &amp; Rhoads 2002). So the line may well be attenuated by the damping wings of the neutral gas. The sixth source has EW&gt;85 Å (Rhoads et al. 2003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25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Lyman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 Test, First Order Concerns: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Lyman α test is based on number counts as a function of redshift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trong evolution could cause trouble.  In particular, a decrease in n(z) could mimic a neutral IGM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However, the intrinsic n(z) is more likely to increase than decrease at reionization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tar formation in small halos is suppressed at reionization;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Lyman α galaxies appear to be primitive objects (Malhotra &amp; Rhoads 2002) and should be a larger fraction of galaxies at high z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Lyman break galaxies offer a control sample, if we can go deep enough to find them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28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ltradeep Field Grism Expectations: Lyman Break Galax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xtrapolating from shallower grism data, we estimate that Lyman break galaxies can be reliably identified to I(AB) = 26.9 for breaks near the throughput peak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ffective redshift limit around 6.7 (to have some useful wavelength coverage redward of break)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pare limit at redshift &lt; 6.0 for i’, z’ two-filter detections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edicted Counts… shortly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31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ltradeep Field Grism Expectations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yman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 Galax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solated emission lines near peak sensitivity would be detected to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8x10</a:t>
            </a:r>
            <a:r>
              <a:rPr b="0" lang="en-US" sz="2400" spc="-1" strike="noStrike" baseline="30000">
                <a:solidFill>
                  <a:srgbClr val="ffff66"/>
                </a:solidFill>
                <a:latin typeface="Times New Roman"/>
              </a:rPr>
              <a:t>-18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erg/cm</a:t>
            </a:r>
            <a:r>
              <a:rPr b="0" lang="en-US" sz="24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/s for compact galaxie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6x10</a:t>
            </a:r>
            <a:r>
              <a:rPr b="0" lang="en-US" sz="2400" spc="-1" strike="noStrike" baseline="30000">
                <a:solidFill>
                  <a:srgbClr val="ffff66"/>
                </a:solidFill>
                <a:latin typeface="Times New Roman"/>
              </a:rPr>
              <a:t>-18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erg/cm</a:t>
            </a:r>
            <a:r>
              <a:rPr b="0" lang="en-US" sz="24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/s for point source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Lyman-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α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galaxy density: ~1 per sq. arcminute per unit z above flux 2x10</a:t>
            </a:r>
            <a:r>
              <a:rPr b="0" lang="en-US" sz="2800" spc="-1" strike="noStrike" baseline="30000">
                <a:solidFill>
                  <a:srgbClr val="ffff66"/>
                </a:solidFill>
                <a:latin typeface="Times New Roman"/>
              </a:rPr>
              <a:t>-17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erg/cm</a:t>
            </a:r>
            <a:r>
              <a:rPr b="0" lang="en-US" sz="28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/s  (z=4.5, Rhoads et al 2000)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 very steep luminosity function observed</a:t>
            </a:r>
            <a:r>
              <a:rPr b="0" lang="en-US" sz="2800" spc="-1" strike="noStrike">
                <a:solidFill>
                  <a:srgbClr val="ffff66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expect many objects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34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ltradeep Field Grism Expectations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yman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 Galax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0" y="1676520"/>
            <a:ext cx="358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umber-flux relations for Lyman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α galaxies from the LALA survey.  Scaled to redshift z=5.7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Black: z=4.5 data; Green: z=5.7 data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Red line: N ~ 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Times New Roman"/>
                <a:ea typeface="Times New Roman"/>
              </a:rPr>
              <a:t>-3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37" name="lf_comp" descr=""/>
          <p:cNvPicPr/>
          <p:nvPr/>
        </p:nvPicPr>
        <p:blipFill>
          <a:blip r:embed="rId1"/>
          <a:stretch/>
        </p:blipFill>
        <p:spPr>
          <a:xfrm>
            <a:off x="0" y="1600200"/>
            <a:ext cx="4830840" cy="4343400"/>
          </a:xfrm>
          <a:prstGeom prst="rect">
            <a:avLst/>
          </a:prstGeom>
          <a:ln w="0">
            <a:noFill/>
          </a:ln>
        </p:spPr>
      </p:pic>
      <p:pic>
        <p:nvPicPr>
          <p:cNvPr id="138" name="02threeGrapes" descr=""/>
          <p:cNvPicPr/>
          <p:nvPr/>
        </p:nvPicPr>
        <p:blipFill>
          <a:blip r:embed="rId2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ected Numbers of z&gt;6 Lyman-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emit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dapted from Stiavelli et al. 2003. Upper limits from Hu et al. and detection from the Large Area Lyman Alpha (LALA) survey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Grapes should see 3-30 z&gt;6 Lyman-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emitters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41" name="talkfig4" descr=""/>
          <p:cNvPicPr/>
          <p:nvPr/>
        </p:nvPicPr>
        <p:blipFill>
          <a:blip r:embed="rId1"/>
          <a:stretch/>
        </p:blipFill>
        <p:spPr>
          <a:xfrm>
            <a:off x="0" y="1523880"/>
            <a:ext cx="4724280" cy="4592880"/>
          </a:xfrm>
          <a:prstGeom prst="rect">
            <a:avLst/>
          </a:prstGeom>
          <a:ln w="0">
            <a:noFill/>
          </a:ln>
        </p:spPr>
      </p:pic>
      <p:pic>
        <p:nvPicPr>
          <p:cNvPr id="142" name="02threeGrapes" descr=""/>
          <p:cNvPicPr/>
          <p:nvPr/>
        </p:nvPicPr>
        <p:blipFill>
          <a:blip r:embed="rId2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057400" y="3581280"/>
            <a:ext cx="76320" cy="76320"/>
          </a:xfrm>
          <a:prstGeom prst="ellipse">
            <a:avLst/>
          </a:prstGeom>
          <a:solidFill>
            <a:srgbClr val="33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35053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Times New Roman"/>
              </a:rPr>
              <a:t>LALA</a:t>
            </a:r>
            <a:endParaRPr b="0" lang="en-US" sz="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2514600"/>
            <a:ext cx="914400" cy="2509920"/>
          </a:xfrm>
          <a:prstGeom prst="line">
            <a:avLst/>
          </a:prstGeom>
          <a:ln w="22320">
            <a:solidFill>
              <a:srgbClr val="d2350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ltradeep Field Grism Expectations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Redshif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laxy Cou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85800" y="2057400"/>
          <a:ext cx="7696080" cy="3581280"/>
        </p:xfrm>
        <a:graphic>
          <a:graphicData uri="http://schemas.openxmlformats.org/drawingml/2006/table">
            <a:tbl>
              <a:tblPr/>
              <a:tblGrid>
                <a:gridCol w="2565360"/>
                <a:gridCol w="2565000"/>
                <a:gridCol w="2565720"/>
              </a:tblGrid>
              <a:tr h="89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.5&lt;z&lt;5.5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.5&lt;z&lt;6.7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89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Lyman-break galaxies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Lyman-</a:t>
                      </a: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0-400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-30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89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AGNs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~0.6-4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8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Times New Roman"/>
              </a:rPr>
              <a:t>GRism ACS Program for Extragalactic Science (GRAP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238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Team: S. Malhotra, A. Cimatti, S. Cristiani, E. Daddi, H. Ferguson, J. Gardner, C. Gronwall, Z. Haiman, A. Koekemoer, A.  Pasquali, N. Panagia, L. Petro, N. Pirzkal,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J. Rhoads,  M. Stiavelli, S. di Serego Aligheri, Z. Tsvetanov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J. Vernet, J. Walsh, R. Windhorst, H.J. Yan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1981080"/>
            <a:ext cx="7696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Deepest Unbiased Spectroscopy yet. I(AB) &lt; 27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(UDF)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4" name="03_threeGrapes" descr=""/>
          <p:cNvPicPr/>
          <p:nvPr/>
        </p:nvPicPr>
        <p:blipFill>
          <a:blip r:embed="rId1"/>
          <a:stretch/>
        </p:blipFill>
        <p:spPr>
          <a:xfrm>
            <a:off x="2590920" y="30481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ltradeep Field Grism Expectations: Foreground (z ~ 1) Galaxies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Most galaxies with a well detected emission line or 4000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Å break will yield a redshift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wo lines </a:t>
            </a:r>
            <a:r>
              <a:rPr b="0" lang="en-US" sz="2400" spc="-1" strike="noStrike">
                <a:solidFill>
                  <a:srgbClr val="ffff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redshift;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One line </a:t>
            </a:r>
            <a:r>
              <a:rPr b="0" lang="en-US" sz="2400" spc="-1" strike="noStrike">
                <a:solidFill>
                  <a:srgbClr val="ffff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synergy with photo-z (grism redshift is more precise but may be less accurate) and with ground based followup (more wavelength coverage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tar formation history from emission lines at 0&lt;z&lt;1.8;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ield ellipticals over a similar redshift range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51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ltradeep Field Grism Expectations: Faint Quasar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e have  detected a couple of promising high redshift quasar candidates in our deepest cycle 11 parallel grism data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Many AGN lines </a:t>
            </a:r>
            <a:r>
              <a:rPr b="0" lang="en-US" sz="2800" spc="-1" strike="noStrike">
                <a:solidFill>
                  <a:srgbClr val="ffff6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broad redshift coverag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Morphology + spectroscopy (+variability) </a:t>
            </a:r>
            <a:r>
              <a:rPr b="0" lang="en-US" sz="2800" spc="-1" strike="noStrike">
                <a:solidFill>
                  <a:srgbClr val="ffff6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reliable identifications, completeness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aveat: modest sample siz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54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04920" y="228600"/>
            <a:ext cx="8610480" cy="914400"/>
          </a:xfrm>
          <a:prstGeom prst="rect">
            <a:avLst/>
          </a:prstGeom>
          <a:solidFill>
            <a:srgbClr val="ecbdb0">
              <a:alpha val="50000"/>
            </a:srgbClr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CS Pure Parallel Lyman-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mission Surve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990720"/>
            <a:ext cx="9144000" cy="5187960"/>
            <a:chOff x="0" y="990720"/>
            <a:chExt cx="9144000" cy="5187960"/>
          </a:xfrm>
        </p:grpSpPr>
        <p:pic>
          <p:nvPicPr>
            <p:cNvPr id="158" name="ds9f814w" descr=""/>
            <p:cNvPicPr/>
            <p:nvPr/>
          </p:nvPicPr>
          <p:blipFill>
            <a:blip r:embed="rId2"/>
            <a:stretch/>
          </p:blipFill>
          <p:spPr>
            <a:xfrm>
              <a:off x="0" y="990720"/>
              <a:ext cx="4572000" cy="36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ds9g800l" descr=""/>
            <p:cNvPicPr/>
            <p:nvPr/>
          </p:nvPicPr>
          <p:blipFill>
            <a:blip r:embed="rId3"/>
            <a:stretch/>
          </p:blipFill>
          <p:spPr>
            <a:xfrm>
              <a:off x="4572000" y="997200"/>
              <a:ext cx="4572000" cy="36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obj338cnt" descr=""/>
            <p:cNvPicPr/>
            <p:nvPr/>
          </p:nvPicPr>
          <p:blipFill>
            <a:blip r:embed="rId4"/>
            <a:stretch/>
          </p:blipFill>
          <p:spPr>
            <a:xfrm>
              <a:off x="0" y="4654800"/>
              <a:ext cx="45720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obj339cnt" descr=""/>
            <p:cNvPicPr/>
            <p:nvPr/>
          </p:nvPicPr>
          <p:blipFill>
            <a:blip r:embed="rId5"/>
            <a:stretch/>
          </p:blipFill>
          <p:spPr>
            <a:xfrm>
              <a:off x="4572000" y="4654800"/>
              <a:ext cx="457200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apples_color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10058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4920" y="228600"/>
            <a:ext cx="8610480" cy="6400800"/>
          </a:xfrm>
          <a:prstGeom prst="rect">
            <a:avLst/>
          </a:prstGeom>
          <a:solidFill>
            <a:srgbClr val="ecbdb0">
              <a:alpha val="50000"/>
            </a:srgbClr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ES First-Look Lyman Break Galax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4920" y="914400"/>
            <a:ext cx="8534160" cy="5654160"/>
            <a:chOff x="304920" y="914400"/>
            <a:chExt cx="8534160" cy="5654160"/>
          </a:xfrm>
        </p:grpSpPr>
        <p:pic>
          <p:nvPicPr>
            <p:cNvPr id="166" name="obj317cnt" descr=""/>
            <p:cNvPicPr/>
            <p:nvPr/>
          </p:nvPicPr>
          <p:blipFill>
            <a:blip r:embed="rId2"/>
            <a:stretch/>
          </p:blipFill>
          <p:spPr>
            <a:xfrm>
              <a:off x="304920" y="914400"/>
              <a:ext cx="4267080" cy="19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obj317flx" descr=""/>
            <p:cNvPicPr/>
            <p:nvPr/>
          </p:nvPicPr>
          <p:blipFill>
            <a:blip r:embed="rId3"/>
            <a:stretch/>
          </p:blipFill>
          <p:spPr>
            <a:xfrm>
              <a:off x="4572000" y="914400"/>
              <a:ext cx="4267080" cy="19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obj754cnt" descr=""/>
            <p:cNvPicPr/>
            <p:nvPr/>
          </p:nvPicPr>
          <p:blipFill>
            <a:blip r:embed="rId4"/>
            <a:stretch/>
          </p:blipFill>
          <p:spPr>
            <a:xfrm>
              <a:off x="304920" y="2819160"/>
              <a:ext cx="4267080" cy="19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obj754flx" descr=""/>
            <p:cNvPicPr/>
            <p:nvPr/>
          </p:nvPicPr>
          <p:blipFill>
            <a:blip r:embed="rId5"/>
            <a:stretch/>
          </p:blipFill>
          <p:spPr>
            <a:xfrm>
              <a:off x="4572000" y="2819160"/>
              <a:ext cx="4267080" cy="191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obj531cnt" descr=""/>
            <p:cNvPicPr/>
            <p:nvPr/>
          </p:nvPicPr>
          <p:blipFill>
            <a:blip r:embed="rId6"/>
            <a:stretch/>
          </p:blipFill>
          <p:spPr>
            <a:xfrm>
              <a:off x="304920" y="4647960"/>
              <a:ext cx="4267080" cy="19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obj531flx" descr=""/>
            <p:cNvPicPr/>
            <p:nvPr/>
          </p:nvPicPr>
          <p:blipFill>
            <a:blip r:embed="rId7"/>
            <a:stretch/>
          </p:blipFill>
          <p:spPr>
            <a:xfrm>
              <a:off x="4572000" y="4647960"/>
              <a:ext cx="4267080" cy="1920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apples_color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10058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04920" y="228600"/>
            <a:ext cx="8610480" cy="6400800"/>
          </a:xfrm>
          <a:prstGeom prst="rect">
            <a:avLst/>
          </a:prstGeom>
          <a:solidFill>
            <a:srgbClr val="ecbdb0">
              <a:alpha val="50000"/>
            </a:srgbClr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ES First-Look Emission Line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obj209cnt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4267080" cy="1920600"/>
          </a:xfrm>
          <a:prstGeom prst="rect">
            <a:avLst/>
          </a:prstGeom>
          <a:ln w="0">
            <a:noFill/>
          </a:ln>
        </p:spPr>
      </p:pic>
      <p:pic>
        <p:nvPicPr>
          <p:cNvPr id="176" name="obj209flx" descr=""/>
          <p:cNvPicPr/>
          <p:nvPr/>
        </p:nvPicPr>
        <p:blipFill>
          <a:blip r:embed="rId3"/>
          <a:stretch/>
        </p:blipFill>
        <p:spPr>
          <a:xfrm>
            <a:off x="4572000" y="2819520"/>
            <a:ext cx="4267080" cy="1920600"/>
          </a:xfrm>
          <a:prstGeom prst="rect">
            <a:avLst/>
          </a:prstGeom>
          <a:ln w="0">
            <a:noFill/>
          </a:ln>
        </p:spPr>
      </p:pic>
      <p:pic>
        <p:nvPicPr>
          <p:cNvPr id="177" name="obj1798cnt" descr=""/>
          <p:cNvPicPr/>
          <p:nvPr/>
        </p:nvPicPr>
        <p:blipFill>
          <a:blip r:embed="rId4"/>
          <a:stretch/>
        </p:blipFill>
        <p:spPr>
          <a:xfrm>
            <a:off x="304920" y="4724280"/>
            <a:ext cx="4267080" cy="1920960"/>
          </a:xfrm>
          <a:prstGeom prst="rect">
            <a:avLst/>
          </a:prstGeom>
          <a:ln w="0">
            <a:noFill/>
          </a:ln>
        </p:spPr>
      </p:pic>
      <p:pic>
        <p:nvPicPr>
          <p:cNvPr id="178" name="obj1798flx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4267080" cy="1920960"/>
          </a:xfrm>
          <a:prstGeom prst="rect">
            <a:avLst/>
          </a:prstGeom>
          <a:ln w="0">
            <a:noFill/>
          </a:ln>
        </p:spPr>
      </p:pic>
      <p:pic>
        <p:nvPicPr>
          <p:cNvPr id="179" name="obj338cnt" descr=""/>
          <p:cNvPicPr/>
          <p:nvPr/>
        </p:nvPicPr>
        <p:blipFill>
          <a:blip r:embed="rId6"/>
          <a:stretch/>
        </p:blipFill>
        <p:spPr>
          <a:xfrm>
            <a:off x="304920" y="914400"/>
            <a:ext cx="4267080" cy="1920960"/>
          </a:xfrm>
          <a:prstGeom prst="rect">
            <a:avLst/>
          </a:prstGeom>
          <a:ln w="0">
            <a:noFill/>
          </a:ln>
        </p:spPr>
      </p:pic>
      <p:pic>
        <p:nvPicPr>
          <p:cNvPr id="180" name="obj338flx" descr=""/>
          <p:cNvPicPr/>
          <p:nvPr/>
        </p:nvPicPr>
        <p:blipFill>
          <a:blip r:embed="rId7"/>
          <a:stretch/>
        </p:blipFill>
        <p:spPr>
          <a:xfrm>
            <a:off x="4572000" y="914400"/>
            <a:ext cx="4267080" cy="19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ynergy with Ground Based Spect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Grapes will help ground based spectroscopy in at least two ways: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stant” redshifts for ~ 300 to 500 objects; potential savings of time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dentification of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which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faint objects are worth a slitlet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nversely, ground based data yield more flexible wavelength coverage and higher resolution, offering physical information unavailable with the grism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83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ctrum Overlap and Roll Ang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Overlap is potentially a problem in slitless spectroscopy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xtrapolation from shallower grism fields and simulated GRAPES data both imply 20% contamination in any roll angle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Multiple roll angles will resolve source confusion due to overlap for almost all sources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86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ience and Data Produ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imary Data Product: Reduced, extracted spectra to go in the public domain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cience products: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pectral identification of galaxies between 4&lt;z&lt;7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ntinuous redshift coverage =&gt; Clean studies of galaxy evolution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Galaxies with old stellar populations, HII region lines or both identified at z~1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M-dwarfs, Supernovae …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89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paring the Two Reionization Tes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85800" y="1600200"/>
          <a:ext cx="7772400" cy="431172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  <a:gridCol w="2895480"/>
              </a:tblGrid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Gunn-Peterson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Lyman </a:t>
                      </a: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Threshold neutral fraction in uniform IGM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ffff66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.1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 nonuniform IGM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ffff66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&gt; 0.1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ource luminosity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Very bright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Faint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Redshift coverage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Continuous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Discrete from ground; continuous above atmosphere.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yman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 Galaxies at High Redshif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ensity: About 1 per sq. arcminute per unit z above flux 2 10</a:t>
            </a:r>
            <a:r>
              <a:rPr b="0" lang="en-US" sz="2800" spc="-1" strike="noStrike" baseline="30000">
                <a:solidFill>
                  <a:srgbClr val="ffff66"/>
                </a:solidFill>
                <a:latin typeface="Times New Roman"/>
              </a:rPr>
              <a:t>-17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erg/cm</a:t>
            </a:r>
            <a:r>
              <a:rPr b="0" lang="en-US" sz="28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/s  (z=4.5, Rhoads et al 2000)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ypical equivalent widths very large (Malhotra &amp; Rhoads 2002):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xtreme youth coupled with low metallicity and/or top-heavy IMF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xtension to z &gt; 5.5 easier than for Lyman break: No need for broadband data at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λ &gt;&gt; (1+z) 1215 Å, thus an optical detector suffices even at z ~ 7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wfc_sens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4267080" cy="4264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S Grism Characteristics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800L + WF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ispersion: 4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Å/pixel, Resolution: ~ 80Å (point source; scales with image size)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avelength calibration is accurate ~10Å or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z~0.001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avelength coverage: ~ 550 nm to 1050 nm at “zero” response;  600 to 930 nm at half max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8" name="02threeGrapes" descr=""/>
          <p:cNvPicPr/>
          <p:nvPr/>
        </p:nvPicPr>
        <p:blipFill>
          <a:blip r:embed="rId2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S Grism Simul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198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yman Alpha emitter: Flux 3e-17 erg/cm2/s, rest frame EW=1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Å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Lyman break galaxy: I(AB) = 25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96" name="apples_sim_fig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5375520" cy="49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apples_color" descr=""/>
          <p:cNvPicPr/>
          <p:nvPr/>
        </p:nvPicPr>
        <p:blipFill>
          <a:blip r:embed="rId1"/>
          <a:stretch/>
        </p:blipFill>
        <p:spPr>
          <a:xfrm>
            <a:off x="0" y="-990720"/>
            <a:ext cx="10058400" cy="100584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Now for 0ur on-co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solidFill>
            <a:srgbClr val="ecbdb0">
              <a:alpha val="50000"/>
            </a:srgbClr>
          </a:solidFill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CS Pure Parallel Lyman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Emission Survey,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ES”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for 175 parallel orbits in HST cycle 11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m: J. Rhoads, S. Malhotra, C. Gronwall, Z. Tsvetanov, J. Walsh, Z. Haiman, A. Cimatti, S. Cristiani, E. Daddi, A. Pasquali, N. Pirzkal, S. di Serego Aligheri, J. Vernet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litless spectroscopic search to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~ 1000 Lym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galaxies at 4&lt;z&lt;7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their evolution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the mean and scatter in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eion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star formation at lower redshifts with H and O lines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ltradeep Field Grism Expectations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dshif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e estimate that ~ 10% of sources detected in our deepest APPLES field (~ 10 ksec of F814W) will yield redshifts in the corresponding 27 ksec grism exposure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xtrapolating crudely implies 300 to 500 redshifts might be obtained in an ACS Ultradeep grism exposure of 80 orbits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More detailed extrapolation should be done for each class of object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ionization Tes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Gunn-Peterson Trough: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quires a highly luminous background source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ensitive to optical depths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τ ~ 5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roximity effect needs to be considered (at least for steady sources)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Lyman-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α Galaxy Counts: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quires low-luminosity sources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ensitive to line center optical depths of ~ 10</a:t>
            </a:r>
            <a:r>
              <a:rPr b="0" lang="en-US" sz="2400" spc="-1" strike="noStrike" baseline="30000">
                <a:solidFill>
                  <a:srgbClr val="ffff66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ionization movie – Nick Gned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4952880" cy="40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Lyman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 Test, Second Order Concer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Galactic winds?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nfall?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Bright neighbors?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Quick estimates suggest that none are plausible loopholes (work in progress)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 of HST/ACS combin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skyspec_r" descr=""/>
          <p:cNvPicPr/>
          <p:nvPr/>
        </p:nvPicPr>
        <p:blipFill>
          <a:blip r:embed="rId1"/>
          <a:stretch/>
        </p:blipFill>
        <p:spPr>
          <a:xfrm>
            <a:off x="152280" y="3405240"/>
            <a:ext cx="4648320" cy="3452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12193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91440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ow sky background from spac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d sensitivity of the AC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High redshift galaxies are compact, HST PSF help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ontiguous wavelength/redshift coverage, unlike ground based instruments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3" name="02threeGrapes" descr=""/>
          <p:cNvPicPr/>
          <p:nvPr/>
        </p:nvPicPr>
        <p:blipFill>
          <a:blip r:embed="rId2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ience Go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obe reionization era by determining luminosity functions of lyman-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emitters, lyman-break galaxies at z=4-7 and low-luminosity AGNs.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tudy star-formation and galaxy assembly at 1&lt;z&lt;2 by identifying star-forming galaxies with strong emission lines and old populations with strong 4000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Å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 break and any combination of the two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upernovae spectra, M-dwarfs, [your science]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6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Epoch of Reion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0" y="1676520"/>
            <a:ext cx="4572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detection of Gunn-Peterson trough(s) in z ~ 6 quasars show the late stages of H reionization (Becker et al. 2001, Fan et al. 2002.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MAP results indicate substantial reionization at z~15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as the universe reionized twice (Cen 2002)?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9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  <p:pic>
        <p:nvPicPr>
          <p:cNvPr id="70" name="gp" descr=""/>
          <p:cNvPicPr/>
          <p:nvPr/>
        </p:nvPicPr>
        <p:blipFill>
          <a:blip r:embed="rId2"/>
          <a:stretch/>
        </p:blipFill>
        <p:spPr>
          <a:xfrm>
            <a:off x="0" y="1752480"/>
            <a:ext cx="465444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poch of Galaxy forma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523880"/>
            <a:ext cx="792468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arly stages of galaxy formation are presumably ongoing at z~6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Our current samples at this redshift are small: A half dozen z&gt;5 galaxies, 6 at z&gt;6, quasars at the very brightest end of luminosity function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e would like to determine the epoch and pace of reionization as well as the luminosity function of sources (galaxies/AGNs) responsible for the photons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4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ing  Reionization with Lyman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 emit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ow luminosity Lyman-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α sources should not be visible before reionization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yman alpha photons resonantly scatter in a neutral universe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means they should not be apparent as compact sources, I.e., we expect a sharp drop in the Lyman alpha source counts at reionization.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(Miralda-Escude 1998; Miralda-Escude &amp; Rees 1998;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Haiman &amp; Spaans 1999; Loeb &amp; Rybicki 1999)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Higher luminosity sources (e.g. quasars) create a local ionized bubble allowing the Lyman-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α photons to escape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7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a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029200" y="3124080"/>
            <a:ext cx="1066680" cy="1067040"/>
          </a:xfrm>
          <a:prstGeom prst="ellipse">
            <a:avLst/>
          </a:prstGeom>
          <a:solidFill>
            <a:srgbClr val="000099"/>
          </a:solidFill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onant Scattering Before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ion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752480" y="1981080"/>
            <a:ext cx="15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33160" y="4191120"/>
            <a:ext cx="461880" cy="156960"/>
            <a:chOff x="533160" y="4191120"/>
            <a:chExt cx="461880" cy="156960"/>
          </a:xfrm>
        </p:grpSpPr>
        <p:sp>
          <p:nvSpPr>
            <p:cNvPr id="82" name=""/>
            <p:cNvSpPr/>
            <p:nvPr/>
          </p:nvSpPr>
          <p:spPr>
            <a:xfrm flipH="1">
              <a:off x="533160" y="4268880"/>
              <a:ext cx="461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533160" y="4191120"/>
              <a:ext cx="91800" cy="77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533160" y="4268880"/>
              <a:ext cx="91800" cy="79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777960" y="3711600"/>
            <a:ext cx="31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809880"/>
            <a:ext cx="38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To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44360" y="37209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886200"/>
            <a:ext cx="843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0640" y="3962520"/>
            <a:ext cx="67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Observer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93640" y="38768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51280" y="2306520"/>
            <a:ext cx="9367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13560" y="2316240"/>
            <a:ext cx="152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Neutral IGM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52720" y="23162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69000" y="3867120"/>
            <a:ext cx="1074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17240" y="3876840"/>
            <a:ext cx="156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Young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starburst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08320" y="38768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2971800"/>
            <a:ext cx="4645080" cy="1857240"/>
          </a:xfrm>
          <a:custGeom>
            <a:avLst/>
            <a:gdLst/>
            <a:ahLst/>
            <a:rect l="l" t="t" r="r" b="b"/>
            <a:pathLst>
              <a:path w="2926" h="1170">
                <a:moveTo>
                  <a:pt x="2350" y="621"/>
                </a:moveTo>
                <a:lnTo>
                  <a:pt x="2761" y="978"/>
                </a:lnTo>
                <a:lnTo>
                  <a:pt x="2926" y="0"/>
                </a:lnTo>
                <a:lnTo>
                  <a:pt x="1742" y="203"/>
                </a:lnTo>
                <a:lnTo>
                  <a:pt x="1742" y="299"/>
                </a:lnTo>
                <a:lnTo>
                  <a:pt x="1934" y="203"/>
                </a:lnTo>
                <a:lnTo>
                  <a:pt x="1742" y="539"/>
                </a:lnTo>
                <a:lnTo>
                  <a:pt x="1742" y="923"/>
                </a:lnTo>
                <a:lnTo>
                  <a:pt x="2268" y="813"/>
                </a:lnTo>
                <a:lnTo>
                  <a:pt x="2030" y="1019"/>
                </a:lnTo>
                <a:lnTo>
                  <a:pt x="2030" y="731"/>
                </a:lnTo>
                <a:lnTo>
                  <a:pt x="1598" y="827"/>
                </a:lnTo>
                <a:lnTo>
                  <a:pt x="1694" y="1019"/>
                </a:lnTo>
                <a:lnTo>
                  <a:pt x="1886" y="971"/>
                </a:lnTo>
                <a:lnTo>
                  <a:pt x="1838" y="1163"/>
                </a:lnTo>
                <a:lnTo>
                  <a:pt x="1152" y="731"/>
                </a:lnTo>
                <a:lnTo>
                  <a:pt x="896" y="1170"/>
                </a:lnTo>
                <a:lnTo>
                  <a:pt x="0" y="1170"/>
                </a:ln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0080" y="2209680"/>
            <a:ext cx="3600720" cy="2286000"/>
          </a:xfrm>
          <a:custGeom>
            <a:avLst/>
            <a:gdLst/>
            <a:ahLst/>
            <a:rect l="l" t="t" r="r" b="b"/>
            <a:pathLst>
              <a:path w="2268" h="1440">
                <a:moveTo>
                  <a:pt x="2268" y="699"/>
                </a:moveTo>
                <a:lnTo>
                  <a:pt x="2231" y="453"/>
                </a:lnTo>
                <a:lnTo>
                  <a:pt x="1623" y="624"/>
                </a:lnTo>
                <a:lnTo>
                  <a:pt x="1671" y="1440"/>
                </a:lnTo>
                <a:lnTo>
                  <a:pt x="951" y="576"/>
                </a:lnTo>
                <a:lnTo>
                  <a:pt x="951" y="960"/>
                </a:lnTo>
                <a:lnTo>
                  <a:pt x="1095" y="288"/>
                </a:lnTo>
                <a:lnTo>
                  <a:pt x="1575" y="768"/>
                </a:lnTo>
                <a:lnTo>
                  <a:pt x="1719" y="0"/>
                </a:lnTo>
                <a:lnTo>
                  <a:pt x="1767" y="480"/>
                </a:lnTo>
                <a:lnTo>
                  <a:pt x="2007" y="336"/>
                </a:lnTo>
                <a:lnTo>
                  <a:pt x="1408" y="14"/>
                </a:lnTo>
                <a:lnTo>
                  <a:pt x="0" y="14"/>
                </a:ln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1880" y="2895480"/>
            <a:ext cx="3352680" cy="1486080"/>
          </a:xfrm>
          <a:custGeom>
            <a:avLst/>
            <a:gdLst/>
            <a:ahLst/>
            <a:rect l="l" t="t" r="r" b="b"/>
            <a:pathLst>
              <a:path w="2112" h="936">
                <a:moveTo>
                  <a:pt x="2112" y="489"/>
                </a:moveTo>
                <a:lnTo>
                  <a:pt x="1976" y="359"/>
                </a:lnTo>
                <a:lnTo>
                  <a:pt x="1085" y="144"/>
                </a:lnTo>
                <a:lnTo>
                  <a:pt x="1181" y="0"/>
                </a:lnTo>
                <a:lnTo>
                  <a:pt x="1646" y="936"/>
                </a:lnTo>
                <a:lnTo>
                  <a:pt x="0" y="928"/>
                </a:ln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676160" y="4368960"/>
            <a:ext cx="228600" cy="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2880" y="48769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Lyman α photons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747440" y="2228760"/>
            <a:ext cx="228600" cy="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752120" y="4826160"/>
            <a:ext cx="228600" cy="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429000"/>
            <a:ext cx="457200" cy="533520"/>
          </a:xfrm>
          <a:custGeom>
            <a:avLst/>
            <a:gdLst>
              <a:gd name="textAreaLeft" fmla="*/ 104400 w 457200"/>
              <a:gd name="textAreaRight" fmla="*/ 352800 w 45720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752120" y="350532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752120" y="365760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3809880"/>
            <a:ext cx="3429000" cy="1800"/>
          </a:xfrm>
          <a:custGeom>
            <a:avLst/>
            <a:gdLst/>
            <a:ahLst/>
            <a:rect l="l" t="t" r="r" b="b"/>
            <a:pathLst>
              <a:path w="2160" h="1">
                <a:moveTo>
                  <a:pt x="2160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28195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ontinuum Photons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154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H II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329076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region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4952880"/>
            <a:ext cx="32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12" name="02threeGrapes" descr=""/>
          <p:cNvPicPr/>
          <p:nvPr/>
        </p:nvPicPr>
        <p:blipFill>
          <a:blip r:embed="rId1"/>
          <a:stretch/>
        </p:blipFill>
        <p:spPr>
          <a:xfrm>
            <a:off x="4857840" y="5737320"/>
            <a:ext cx="42861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1T19:51:35Z</dcterms:created>
  <dc:creator>rhoads</dc:creator>
  <dc:description/>
  <dc:language>en-US</dc:language>
  <cp:lastModifiedBy>san</cp:lastModifiedBy>
  <dcterms:modified xsi:type="dcterms:W3CDTF">2003-05-25T16:55:19Z</dcterms:modified>
  <cp:revision>114</cp:revision>
  <dc:subject/>
  <dc:title>The Large Area Lyman Alpha Survey</dc:title>
</cp:coreProperties>
</file>