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F34-B719-4D19-9FA4-68AF443A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CAB-2370-49E1-904E-3556DB89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2D2-6408-440E-B041-8FA04AD1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FB6-4991-4268-97E5-F23F0CDA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6DF-DC75-432E-9BF0-B9D1AA91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95F-F64F-4603-B316-59B6AD24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31B-2B7B-41F0-A46A-994BED39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342-4553-4AA9-89E6-F9E4493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14240" y="1447560"/>
            <a:ext cx="4724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A2D-35E8-4813-9DC5-57F71CFD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6BD-9851-47AD-8A45-E42C0F33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5CB-6480-4D1F-B98A-44D8162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D4B-2738-46C7-9C2E-F35AB826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062-C373-4785-99C9-DE5C63E1D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ScIlogoB" descr=""/>
          <p:cNvPicPr/>
          <p:nvPr/>
        </p:nvPicPr>
        <p:blipFill>
          <a:blip r:embed="rId2"/>
          <a:stretch/>
        </p:blipFill>
        <p:spPr>
          <a:xfrm>
            <a:off x="-2362320" y="228600"/>
            <a:ext cx="1560600" cy="993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152280"/>
            <a:ext cx="472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COSMIC DAWN: Early Resuts 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from the Hubble Ultra Deep Field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September 2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200400" y="228600"/>
            <a:ext cx="0" cy="762120"/>
          </a:xfrm>
          <a:prstGeom prst="line">
            <a:avLst/>
          </a:prstGeom>
          <a:ln w="9360">
            <a:solidFill>
              <a:srgbClr val="f4e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TScIlogoX" descr=""/>
          <p:cNvPicPr/>
          <p:nvPr/>
        </p:nvPicPr>
        <p:blipFill>
          <a:blip r:embed="rId3"/>
          <a:stretch/>
        </p:blipFill>
        <p:spPr>
          <a:xfrm>
            <a:off x="1828800" y="179280"/>
            <a:ext cx="129528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2000"/>
            </a:b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1. GRAPES Spectra of the Ultra Deep Field</a:t>
            </a:r>
            <a:endParaRPr b="0" lang="en-US" sz="20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46" name="Rhoads0921-01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2000"/>
            </a:b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2. We obtained spectra of all objects in the UDF…</a:t>
            </a:r>
            <a:endParaRPr b="0" lang="en-US" sz="20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48" name="Rhoads0921-02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3. A Map of Galaxies in the Redshift Spike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0" name="Rhoads0921-03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4. Geometry of the Redshift Spike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2" name="Rhoads0921-04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5. Distribution of redshifts for galaxies in the UDF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4" name="Rhoads0921-05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6. </a:t>
            </a: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GRAPES Spectra of the Ultra Deep Field</a:t>
            </a:r>
            <a:endParaRPr b="0" lang="en-US" sz="20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6" name="Rhoads0921-06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3:08:20Z</dcterms:created>
  <dc:creator>Zoltan G. Levay</dc:creator>
  <dc:description/>
  <dc:language>en-US</dc:language>
  <cp:lastModifiedBy>Zoltan G. Levay</cp:lastModifiedBy>
  <dcterms:modified xsi:type="dcterms:W3CDTF">2004-09-21T20:11:31Z</dcterms:modified>
  <cp:revision>13</cp:revision>
  <dc:subject/>
  <dc:title>I-Drops in the Chandra Deep Field South  with HST/ACS</dc:title>
</cp:coreProperties>
</file>