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20C-7E8C-4EFA-A3B9-38B0FEAB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333-48D1-43EB-B778-3ACCAF59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8A4C-1ED1-4AFC-A1F5-146165EA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6D2-A727-4020-A9FA-0C34C749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A0B-505C-49A6-9242-8C6A495D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0DD-36D8-4E90-8D8F-08A0571B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692-1012-465C-A780-D1C12FBB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6AE-4D01-4B87-ABB4-6E11164A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14240" y="1447560"/>
            <a:ext cx="47242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F3A-556C-4C3F-B115-23202512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EB21-D9C9-4288-96D4-592E4297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01F1-CFDF-4425-B1F0-80FC3726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B48-D3A0-447F-B3F4-0DD1CB04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FA61-8FC7-4599-9CE5-6ADD31194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ScIlogoB" descr=""/>
          <p:cNvPicPr/>
          <p:nvPr/>
        </p:nvPicPr>
        <p:blipFill>
          <a:blip r:embed="rId2"/>
          <a:stretch/>
        </p:blipFill>
        <p:spPr>
          <a:xfrm>
            <a:off x="-2362320" y="228600"/>
            <a:ext cx="1560600" cy="993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Click to edit the title text format</a:t>
            </a: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sp>
        <p:nvSpPr>
          <p:cNvPr id="6" name=""/>
          <p:cNvSpPr/>
          <p:nvPr/>
        </p:nvSpPr>
        <p:spPr>
          <a:xfrm>
            <a:off x="3200400" y="152280"/>
            <a:ext cx="4724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COSMIC DAWN: Early Resuts </a:t>
            </a:r>
            <a:br>
              <a:rPr sz="1800"/>
            </a:b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from the Hubble Ultra Deep Field</a:t>
            </a:r>
            <a:br>
              <a:rPr sz="1800"/>
            </a:b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September 23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200400" y="228600"/>
            <a:ext cx="0" cy="762120"/>
          </a:xfrm>
          <a:prstGeom prst="line">
            <a:avLst/>
          </a:prstGeom>
          <a:ln w="9360">
            <a:solidFill>
              <a:srgbClr val="f4e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TScIlogoX" descr=""/>
          <p:cNvPicPr/>
          <p:nvPr/>
        </p:nvPicPr>
        <p:blipFill>
          <a:blip r:embed="rId3"/>
          <a:stretch/>
        </p:blipFill>
        <p:spPr>
          <a:xfrm>
            <a:off x="1828800" y="179280"/>
            <a:ext cx="1295280" cy="82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eaac"/>
                </a:solidFill>
                <a:latin typeface="Lucida Sans Unicode"/>
              </a:rPr>
              <a:t>Rhoads</a:t>
            </a:r>
            <a:br>
              <a:rPr sz="2000"/>
            </a:br>
            <a:r>
              <a:rPr b="0" lang="en-US" sz="2000" spc="-1" strike="noStrike">
                <a:solidFill>
                  <a:srgbClr val="f4eaac"/>
                </a:solidFill>
                <a:latin typeface="Lucida Sans Unicode"/>
              </a:rPr>
              <a:t>1. GRAPES Spectra of the Ultra Deep Field</a:t>
            </a:r>
            <a:endParaRPr b="0" lang="en-US" sz="2000" spc="-1" strike="noStrike">
              <a:solidFill>
                <a:srgbClr val="f4eaac"/>
              </a:solidFill>
              <a:latin typeface="Lucida Sans Unicode"/>
            </a:endParaRPr>
          </a:p>
        </p:txBody>
      </p:sp>
      <p:pic>
        <p:nvPicPr>
          <p:cNvPr id="46" name="Rhoads0921-01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eaac"/>
                </a:solidFill>
                <a:latin typeface="Lucida Sans Unicode"/>
              </a:rPr>
              <a:t>Rhoads</a:t>
            </a:r>
            <a:br>
              <a:rPr sz="2000"/>
            </a:br>
            <a:r>
              <a:rPr b="0" lang="en-US" sz="2000" spc="-1" strike="noStrike">
                <a:solidFill>
                  <a:srgbClr val="f4eaac"/>
                </a:solidFill>
                <a:latin typeface="Lucida Sans Unicode"/>
              </a:rPr>
              <a:t>2. We obtained spectra of all objects in the UDF…</a:t>
            </a:r>
            <a:endParaRPr b="0" lang="en-US" sz="2000" spc="-1" strike="noStrike">
              <a:solidFill>
                <a:srgbClr val="f4eaac"/>
              </a:solidFill>
              <a:latin typeface="Lucida Sans Unicode"/>
            </a:endParaRPr>
          </a:p>
        </p:txBody>
      </p:sp>
      <p:pic>
        <p:nvPicPr>
          <p:cNvPr id="48" name="Rhoads0921-02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Rhoads</a:t>
            </a:r>
            <a:br>
              <a:rPr sz="1800"/>
            </a:b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3. A Map of Galaxies in the Redshift Spike</a:t>
            </a: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pic>
        <p:nvPicPr>
          <p:cNvPr id="50" name="Rhoads0921-03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Rhoads</a:t>
            </a:r>
            <a:br>
              <a:rPr sz="1800"/>
            </a:b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4. Geometry of the Redshift Spike</a:t>
            </a: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pic>
        <p:nvPicPr>
          <p:cNvPr id="52" name="Rhoads0921-04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Rhoads</a:t>
            </a:r>
            <a:br>
              <a:rPr sz="1800"/>
            </a:b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5. Distribution of redshifts for galaxies in the UDF</a:t>
            </a:r>
            <a:endParaRPr b="0" lang="en-US" sz="1800" spc="-1" strike="noStrike">
              <a:solidFill>
                <a:srgbClr val="f4eaac"/>
              </a:solidFill>
              <a:latin typeface="Lucida Sans Unicode"/>
            </a:endParaRPr>
          </a:p>
        </p:txBody>
      </p:sp>
      <p:pic>
        <p:nvPicPr>
          <p:cNvPr id="54" name="Rhoads0921-05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240" y="1447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Rhoads</a:t>
            </a:r>
            <a:br>
              <a:rPr sz="1800"/>
            </a:br>
            <a:r>
              <a:rPr b="0" lang="en-US" sz="1800" spc="-1" strike="noStrike">
                <a:solidFill>
                  <a:srgbClr val="f4eaac"/>
                </a:solidFill>
                <a:latin typeface="Lucida Sans Unicode"/>
              </a:rPr>
              <a:t>6. </a:t>
            </a:r>
            <a:r>
              <a:rPr b="0" lang="en-US" sz="2000" spc="-1" strike="noStrike">
                <a:solidFill>
                  <a:srgbClr val="f4eaac"/>
                </a:solidFill>
                <a:latin typeface="Lucida Sans Unicode"/>
              </a:rPr>
              <a:t>GRAPES Spectra of the Ultra Deep Field</a:t>
            </a:r>
            <a:endParaRPr b="0" lang="en-US" sz="2000" spc="-1" strike="noStrike">
              <a:solidFill>
                <a:srgbClr val="f4eaac"/>
              </a:solidFill>
              <a:latin typeface="Lucida Sans Unicode"/>
            </a:endParaRPr>
          </a:p>
        </p:txBody>
      </p:sp>
      <p:pic>
        <p:nvPicPr>
          <p:cNvPr id="56" name="Rhoads0921-06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3:08:20Z</dcterms:created>
  <dc:creator>Zoltan G. Levay</dc:creator>
  <dc:description/>
  <dc:language>en-US</dc:language>
  <cp:lastModifiedBy>Zoltan G. Levay</cp:lastModifiedBy>
  <dcterms:modified xsi:type="dcterms:W3CDTF">2004-09-21T20:11:31Z</dcterms:modified>
  <cp:revision>13</cp:revision>
  <dc:subject/>
  <dc:title>I-Drops in the Chandra Deep Field South  with HST/ACS</dc:title>
</cp:coreProperties>
</file>